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8F3-9FDD-4743-8AF3-A729A537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ED1-D7A1-4C5C-9E95-30174E1B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EA5-5A80-4FE8-B96F-B7C579B5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ECD-D5E3-4102-A029-64A91712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B2C-735F-411E-BB6A-3DE37F76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872-6DB4-44AC-A777-8B6DB95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E85-F18C-4FCD-B2B3-9DC4F72F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4C9-371B-445C-9D63-5FE0D8CD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BCF-1718-4D04-8EAA-0692559A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434-9557-4007-BFDB-A0D7B60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B89-7371-4829-ABC3-07F007A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BA8-8C00-48C9-A579-3F8A2CD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CA8E-BEE5-4653-9C81-D6AA7C3DC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6360" y="-27000"/>
            <a:ext cx="9070920" cy="8137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Аз съм чул, че ме люби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ристо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че към мен милости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й ще е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й наистина ли тук дой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спаси мен с пречуд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любов, любов,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спаси мен с пречудна лю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-512280"/>
            <a:ext cx="896472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2. Аз съм чу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кръвта Си прол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на кръста кръвта Си прол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Но наистина вярно ли 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за мен Той кръвта 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проля, прол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за мен Той кръвта Си про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5580000" cy="7044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-2089080"/>
            <a:ext cx="5545080" cy="11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3. Аз съм чул и за 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в небе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що за Своите приготвил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е Т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Но дали в то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славен покой има място, готово за ме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за мен, има място, гото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за м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-2988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4. О, Исусе, Ти 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ми дай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воят Дух да ми каже сег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 ми стане известно то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Спасител Си Ти и за м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м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Спасител Си Ти и за мен!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8:41:39Z</dcterms:created>
  <dc:creator>TrifonTrifonow</dc:creator>
  <dc:description/>
  <dc:language>en-US</dc:language>
  <cp:lastModifiedBy>TrifonTrifonow</cp:lastModifiedBy>
  <dcterms:modified xsi:type="dcterms:W3CDTF">2005-11-22T08:57:14Z</dcterms:modified>
  <cp:revision>9</cp:revision>
  <dc:subject/>
  <dc:title>Slide 1</dc:title>
</cp:coreProperties>
</file>